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103-8E1A-478E-8693-834A01A0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ADE-3FF5-4253-96C7-6683C2DB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51C7-DE49-43C2-A0FA-4A42E9FF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59A9-8B91-49F2-A325-49F0FF02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64E-D019-4EA2-AC8D-A36E637F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89D-BF84-4CBC-9692-57DAEF11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0DCD-0092-4241-BC8E-091D7A1D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38C3-EE35-4FE7-9228-350C73F5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6C32-79AC-4EA6-B4E3-88D2CCD82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B540-322E-4D8B-9EE2-4D7B0FD7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BB7-1A7B-4650-8851-5BD40995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7695-6AF2-43E2-A2A8-665430FD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CE8-B858-4F82-9E48-F5D8DEBF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A24-9681-40AE-A17C-85D508F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BE7-B3DC-4E09-97EA-F1BE76DC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49B-40A3-4636-A82C-75C39971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8B9-ED64-4EAA-8514-987946C8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4AF-B626-46B1-9239-EA8D64C3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D4D-580E-4504-A67E-0562804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8C2-A8BB-441A-A244-945141E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204-0558-4460-9178-75F7E5A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7CF-EF3A-47F2-A034-4DB5B98B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B48-C800-47EA-8F2F-708B814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EDF-EC23-4209-AB08-1305980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C153-D5D3-4350-BDD1-991B640821DB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z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z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z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f the world in economic, political and social terms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Times New Roman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Times New Roman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Daniel Passarelli</cp:lastModifiedBy>
  <dcterms:modified xsi:type="dcterms:W3CDTF">2013-05-11T16:27:09Z</dcterms:modified>
  <cp:revision>37</cp:revision>
  <dc:subject/>
  <dc:title>###Globalisation - PowerPoint Presentation###</dc:title>
</cp:coreProperties>
</file>